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D1C-10AE-445D-BC77-680E3186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145-9DD7-41D5-AE9F-76ED9AF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DEE-C7C8-46CC-A492-7BB4E516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2E6-6DA9-4991-8A13-4DD064ED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969E3-DC67-4F57-AF56-944D65AD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62D9D-F394-4DE1-B03E-A8792E62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BBA0C-8476-4113-B4B5-2D7C644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7D05-3052-4332-B6B2-0B1F001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A494D-17FC-4583-9D29-40F4A5DB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9AD90-2362-48A3-8EFA-18B917CE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11C20-A3D5-4170-A0A1-F9686C8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801-7A93-4120-9E9B-C4914AE4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BB63C-6564-4AFE-A0AE-ADA2DD4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DDD51-BCEF-4944-8077-778AA095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F8D95-86A1-497A-A261-40650F3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1AC65-936A-4097-88A1-51A4E3DE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F1B4B-AC70-462E-8531-9065D23D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BE3-467F-43BB-BD0C-1BFBDBF9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88C-9CB3-42D5-8287-B420CC8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40D-84C6-42C6-954F-E16EB273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677-DB7E-4318-80BD-F1E523B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3A8-5307-406D-AB4C-5E5E373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96B-20BE-4022-A59D-C5B3BE62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163-DDEE-4575-9E56-D415C9D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D928-FCE6-4754-9BFC-108F84F0F2F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779C-39FA-4748-A6BA-0805246878C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114300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Lesson  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Breakfast or lunc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141120"/>
            <a:ext cx="755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ay wa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always get up late on Sund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ever get up before lunch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n did you  get up last Sun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was it like outs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think it was a nice 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happened just th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 was on the ph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 had she arri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you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s she surprised to hear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have to repeat yoursel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etell the sto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838080"/>
            <a:ext cx="725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ver---early---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st Sunday---very 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oked---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ark outside---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just then---telephone---Aunt Lu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rrived---train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ming---see---you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ut---still---breakfast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ery surpr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ar---’she said,’---one o’clock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Why was the writer’s aunt surpri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was Sunday. I never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get up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early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on Sunday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 I sometimes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stay in be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until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unchtime. Last Sunday I got up very late. I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loo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out of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he window. It was dark outside.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What a da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!’ I thought. ‘It’s raining again.’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Just the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the telephone rang. It was my aunt Lucy. “I’ve just arrived by train,’ she said. ‘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’m com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o see you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ut I’m still having breakfast,’ I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at are you doing?’ she as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’m having breakfast,’ I repe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Dear m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’ she said. ‘Do you always get up so late? It’s one o’clock!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720" y="69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80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指天气、时间、距离、身份等，本身无意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76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t’s September. It’s eight o’clock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1460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It’s very cold today. (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265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It is only two miles from my home to New Y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34340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t  was my aunt Lu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4096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until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= till, up to the time tha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890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用作介词或连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9396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waited until 10 o’clock, but he still didn’t 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prepos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89548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Wait until I call. (conjun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3640" y="3610080"/>
            <a:ext cx="69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He read/worked until midnight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41972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 was here until one o’clock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7440"/>
                </a:moveTo>
                <a:lnTo>
                  <a:pt x="13376" y="10051"/>
                </a:ln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lnTo>
                  <a:pt x="17763" y="14403"/>
                </a:lnTo>
                <a:lnTo>
                  <a:pt x="16109" y="14403"/>
                </a:lnTo>
                <a:lnTo>
                  <a:pt x="16109" y="21592"/>
                </a:lnTo>
                <a:lnTo>
                  <a:pt x="5491" y="21592"/>
                </a:lnTo>
                <a:lnTo>
                  <a:pt x="5491" y="14403"/>
                </a:lnTo>
                <a:lnTo>
                  <a:pt x="3837" y="14403"/>
                </a:lnTo>
                <a:close/>
              </a:path>
              <a:path fill="darkenLess" w="21600" h="28806">
                <a:moveTo>
                  <a:pt x="13376" y="10051"/>
                </a:move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close/>
              </a:path>
              <a:path fill="darkenLess" w="21600" h="28806">
                <a:moveTo>
                  <a:pt x="9877" y="17902"/>
                </a:moveTo>
                <a:lnTo>
                  <a:pt x="11723" y="17902"/>
                </a:lnTo>
                <a:lnTo>
                  <a:pt x="11723" y="21592"/>
                </a:lnTo>
                <a:lnTo>
                  <a:pt x="16109" y="21592"/>
                </a:lnTo>
                <a:lnTo>
                  <a:pt x="16109" y="14403"/>
                </a:lnTo>
                <a:lnTo>
                  <a:pt x="5491" y="14403"/>
                </a:lnTo>
                <a:lnTo>
                  <a:pt x="5491" y="21592"/>
                </a:lnTo>
                <a:lnTo>
                  <a:pt x="9877" y="2159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43200" y="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介词与时间短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般说来，时间短语前要加介词， 但下列几种情况均属不加之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、在组成的时间短语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24080"/>
            <a:ext cx="13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、在前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三、当跟时间名词构成时间短语时，它们前面也不加介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We are meeting next Tues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He stayed with us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What are you going to do this ev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666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 I didn’t feel very well tha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505320"/>
            <a:ext cx="66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I’ll have to get up early tomorrow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520" y="388944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he arrived in London the day befor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60" y="472752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You can come an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440" y="510840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ome day we’ll meet aga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440" y="548964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Let’s have a dancing party one evening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5791320"/>
            <a:ext cx="380880" cy="5094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09400"/>
              <a:gd name="textAreaBottom" fmla="*/ 484920 h 509400"/>
            </a:gdLst>
            <a:ahLst/>
            <a:rect l="textAreaLeft" t="textAreaTop" r="textAreaRight" b="textAreaBottom"/>
            <a:pathLst>
              <a:path w="21600" h="28882">
                <a:moveTo>
                  <a:pt x="0" y="0"/>
                </a:moveTo>
                <a:lnTo>
                  <a:pt x="21600" y="0"/>
                </a:lnTo>
                <a:lnTo>
                  <a:pt x="21600" y="28882"/>
                </a:lnTo>
                <a:lnTo>
                  <a:pt x="0" y="28882"/>
                </a:lnTo>
                <a:close/>
              </a:path>
              <a:path fill="lightenLess" w="21600" h="28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82">
                <a:moveTo>
                  <a:pt x="21600" y="0"/>
                </a:moveTo>
                <a:lnTo>
                  <a:pt x="21600" y="28882"/>
                </a:lnTo>
                <a:lnTo>
                  <a:pt x="20200" y="27482"/>
                </a:lnTo>
                <a:lnTo>
                  <a:pt x="20200" y="1400"/>
                </a:lnTo>
                <a:close/>
              </a:path>
              <a:path fill="darkenLess" w="21600" h="28882">
                <a:moveTo>
                  <a:pt x="21600" y="28882"/>
                </a:moveTo>
                <a:lnTo>
                  <a:pt x="0" y="28882"/>
                </a:lnTo>
                <a:lnTo>
                  <a:pt x="1400" y="27482"/>
                </a:lnTo>
                <a:lnTo>
                  <a:pt x="20200" y="27482"/>
                </a:lnTo>
                <a:close/>
              </a:path>
              <a:path fill="lighten" w="21600" h="28882">
                <a:moveTo>
                  <a:pt x="0" y="28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82"/>
                </a:lnTo>
                <a:close/>
              </a:path>
              <a:path fill="darken" w="21600" h="28882">
                <a:moveTo>
                  <a:pt x="10800" y="7478"/>
                </a:moveTo>
                <a:lnTo>
                  <a:pt x="13376" y="10089"/>
                </a:ln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lnTo>
                  <a:pt x="17763" y="14441"/>
                </a:lnTo>
                <a:lnTo>
                  <a:pt x="16109" y="14441"/>
                </a:lnTo>
                <a:lnTo>
                  <a:pt x="16109" y="21630"/>
                </a:lnTo>
                <a:lnTo>
                  <a:pt x="5491" y="21630"/>
                </a:lnTo>
                <a:lnTo>
                  <a:pt x="5491" y="14441"/>
                </a:lnTo>
                <a:lnTo>
                  <a:pt x="3837" y="14441"/>
                </a:lnTo>
                <a:close/>
              </a:path>
              <a:path fill="darkenLess" w="21600" h="28882">
                <a:moveTo>
                  <a:pt x="13376" y="10089"/>
                </a:move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close/>
              </a:path>
              <a:path fill="darkenLess" w="21600" h="28882">
                <a:moveTo>
                  <a:pt x="9877" y="17940"/>
                </a:moveTo>
                <a:lnTo>
                  <a:pt x="11723" y="17940"/>
                </a:lnTo>
                <a:lnTo>
                  <a:pt x="11723" y="21630"/>
                </a:lnTo>
                <a:lnTo>
                  <a:pt x="16109" y="21630"/>
                </a:lnTo>
                <a:lnTo>
                  <a:pt x="16109" y="14441"/>
                </a:lnTo>
                <a:lnTo>
                  <a:pt x="5491" y="14441"/>
                </a:lnTo>
                <a:lnTo>
                  <a:pt x="5491" y="21630"/>
                </a:lnTo>
                <a:lnTo>
                  <a:pt x="9877" y="2163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by bike to school. 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6280" y="1324080"/>
            <a:ext cx="78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ride a bike to school.=I go to school by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49560" y="20098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昨天他坐飞机去了北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809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今天上午我是坐轿车上班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90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ent to Beijing by plan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63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ok a plane to Beijing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19720"/>
            <a:ext cx="61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ent to work by car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95288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ook a car to work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562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3837"/>
                </a:moveTo>
                <a:lnTo>
                  <a:pt x="14929" y="6448"/>
                </a:ln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lnTo>
                  <a:pt x="19315" y="10800"/>
                </a:lnTo>
                <a:lnTo>
                  <a:pt x="17661" y="10800"/>
                </a:lnTo>
                <a:lnTo>
                  <a:pt x="17661" y="17989"/>
                </a:lnTo>
                <a:lnTo>
                  <a:pt x="7043" y="17989"/>
                </a:lnTo>
                <a:lnTo>
                  <a:pt x="7043" y="10800"/>
                </a:lnTo>
                <a:lnTo>
                  <a:pt x="5389" y="10800"/>
                </a:lnTo>
                <a:close/>
              </a:path>
              <a:path fill="darkenLess" w="24704" h="21600">
                <a:moveTo>
                  <a:pt x="14929" y="6448"/>
                </a:move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close/>
              </a:path>
              <a:path fill="darkenLess" w="24704" h="21600">
                <a:moveTo>
                  <a:pt x="11430" y="14299"/>
                </a:moveTo>
                <a:lnTo>
                  <a:pt x="13275" y="14299"/>
                </a:lnTo>
                <a:lnTo>
                  <a:pt x="13275" y="17989"/>
                </a:lnTo>
                <a:lnTo>
                  <a:pt x="17661" y="17989"/>
                </a:lnTo>
                <a:lnTo>
                  <a:pt x="17661" y="10800"/>
                </a:lnTo>
                <a:lnTo>
                  <a:pt x="7043" y="10800"/>
                </a:lnTo>
                <a:lnTo>
                  <a:pt x="7043" y="17989"/>
                </a:lnTo>
                <a:lnTo>
                  <a:pt x="11430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69560" y="146160"/>
            <a:ext cx="42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ummary wr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9144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writer always gets up late on Sundays. He got up late l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unday. Then his aunt Lucy telephoned. She had arrived by train. She was coming to see him. ‘I’m still having breakfast,’he said. His aunt was very surprised. It was one o’cl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                  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(45 wor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tyz</cp:lastModifiedBy>
  <dcterms:modified xsi:type="dcterms:W3CDTF">2003-03-01T08:28:10Z</dcterms:modified>
  <cp:revision>15</cp:revision>
  <dc:subject/>
  <dc:title/>
</cp:coreProperties>
</file>